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6.jpeg" ContentType="image/jpeg"/>
  <Override PartName="/ppt/media/image18.png" ContentType="image/pn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FD73-3A72-4ECB-B72C-54B2BB09F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72CE2-2B00-4A15-8398-649DE0215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A825-8AB1-4F49-A53F-3E9C060ED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55CE-52A4-4757-BC44-7FF07D194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47DD4-3C4B-4530-9F3F-6396C09B6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5BFF6-892E-43B6-AB5E-2014506E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8CC2F-0BCD-49D8-89BF-6C27F128A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7DAA3-B792-46ED-9B06-B9C49506E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0A905-BE62-459F-81E3-1B042B46A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D00C-6DAD-4361-B015-1B0985BFA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CA6A4-87C9-403B-99C9-2D4B7E8DA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44BEA-966C-4B84-9EEB-3C52BCB36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D124D-5AAE-475F-BC76-78E6E103C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92936-78EF-43A1-B467-B79DBD02B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973F9-9AB9-44CA-9E52-BF0D06470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D359B-6314-46AA-BBDD-DABBFE756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F0D39-4F08-4D27-8D7E-2632B08BA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A71CAE-5284-4C31-A45C-5AD1E91D1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A26CB-FC2C-4F69-A288-E827EF66C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0CF6EF-8873-4A64-855D-3FD7530AB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8AB28-E5EF-490D-9C3D-B32649B6F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89F878-8B9D-4A58-9D3B-6793DC6A1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72AB-14DC-42FF-816C-8B01D33A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995F0E-74BC-43FC-8A48-913F3518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31475-1B0E-41A2-A458-3E2B2A8B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AE97F8-3586-4314-8090-5FBAA897B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F01ACC-D616-453D-95AC-3A79CE4BB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C7FD9-901F-4A01-BE7F-9973A8E9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9CB5BE-513D-4D74-8370-8A498C8D3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57ED40-57CA-4A65-999F-5D983D55C2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DA88F3-F5CA-415F-9B68-83D9E1B1C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3E9C0-16D0-4994-9ABE-F210CE0E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768301-271C-413D-878F-4B346BB1B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1406-9BA9-42BB-A97A-315FC8D5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BBB581-CE28-48A4-91B0-D16A59448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6666C7-5821-40FE-809B-F6F8CCFB5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FA2003-717A-491C-B214-E47B47737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1C686-FB5E-4BD9-8C0F-B9AD16BF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C73C4-E5FE-4256-85CE-73D194048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8D6406-403B-47E5-AD74-ACF855561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B02447-5BD2-4718-A712-C2791C931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90849A-8FA3-46BF-9AE4-B0D926CFC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0F8346-3686-4AE7-8848-720CAEB68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8D13A-3611-4EA4-956E-9263BC548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BD13-772D-4A2B-9100-43915082F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4D8B9-F0B0-4541-81C2-76AD70ABA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75D320-8DF3-482E-84D1-288C12428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0D9E79-8B2F-4501-ABFD-EE11589B2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379188-B771-4B3A-919E-44D2BDA37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86C1CE-0A61-40E0-937E-AB2EF2A26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920C93-CA0E-4440-AB47-0E309DF3F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DFB02-EC45-428C-8849-733A49B00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D2EF38-1786-4727-81E6-6067AD134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A65A91-0157-4F85-A32D-69C70BD37C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E6B448-1C5A-4327-86E1-526DAF4AF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7DF7-590D-4405-93F1-7222065D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A85650-4A07-42EC-9122-CEFA92119A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2101BE-60DA-4DB3-8D0A-2B8657E41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70DC5-39BF-4D10-99F4-D84F20282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08F0E0-E684-4F89-B316-6BE09BD16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03392-2AE9-4887-9365-80448E324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F3336E-8EDD-4504-BEC0-873BBE3C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114DE5-73A0-44E1-87AD-0D1AA3630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686B0D-B1B9-448E-8E29-8A1CE8DB3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50563A-8DFA-4BDC-83F6-82D189DC0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FC72E9-D654-4385-90B0-A3018B8FD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A9BC-AC99-448A-8301-71A83F434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D776F8-B61F-47F7-855B-91BFA56C2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6CCDFC-0962-497F-8B28-F70664E0E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99492D-B70B-423B-82B8-DE3139805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82774F-CA6D-430B-9215-D151C3E99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83B922-834B-461A-9863-8776E6222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3CD30C-CCF9-47A7-B50E-39BE66BE1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039701-0293-4351-8C37-EB9007E7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38D33C-5532-4276-93B0-712F3E467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EDDCA5-1151-4FEE-8E18-81111BFA8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CFF357-16FA-4F5A-B4D5-B9BB51193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D7C2-227A-483F-91A4-A6E566727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D97734-F2FA-4FB6-9391-A5C6CD76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6C3F25-4D59-4781-8F08-CC0A423B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CA21F1-0A86-4D50-8BCA-B91B0A01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D7A1A-072C-4C2F-BD61-ABF78800F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726F44-818D-44C3-B41D-6A9AE2C7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0C4F-5282-45C9-B75B-EA8148090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2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0398F-F474-4CB1-90D9-20A8B2CA6D07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" name="Равнобедренный треугольник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2853ac"/>
              </a:gs>
              <a:gs pos="100000">
                <a:srgbClr val="84b0ff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92F4F-D0B8-4CC3-BDED-940196974C49}" type="slidenum">
              <a:rPr b="0" lang="ru-RU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Прямоугольный треугольник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0" name="Прямая соединительная линия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1" name="Прямая соединительная линия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88EF8-9461-4D70-8C24-F7528295117A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Прямоугольный треугольник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72a0ff">
                  <a:alpha val="1176"/>
                </a:srgbClr>
              </a:gs>
              <a:gs pos="100000">
                <a:srgbClr val="72a0ff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4" name="Равнобедренный треугольник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2853ac"/>
              </a:gs>
              <a:gs pos="100000">
                <a:srgbClr val="84b0ff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5" name="Прямая соединительная линия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b6d9ff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6" name="Прямая соединительная линия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aed5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330AA-D9D2-4DBF-A232-F4B8433269E8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9F764-F2C0-4DF8-939B-24025F19D79B}" type="slidenum">
              <a:rPr b="0" lang="ru-RU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680C-BF02-49FC-905B-F598C2284205}" type="slidenum">
              <a:rPr b="0" lang="ru-RU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7df2"/>
            </a:gs>
            <a:gs pos="100000">
              <a:srgbClr val="14a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7daaf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72a0ff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72a0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a5be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87ba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87ba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7ba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87ba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87ba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DBAC2-8E41-4B02-B331-95BD7475965F}" type="slidenum">
              <a:rPr b="0" lang="ru-RU" sz="900" spc="-1" strike="noStrike">
                <a:solidFill>
                  <a:srgbClr val="87ba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Заголовок 3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02" name="Содержимое 5" descr="дом.jpg"/>
          <p:cNvPicPr/>
          <p:nvPr/>
        </p:nvPicPr>
        <p:blipFill>
          <a:blip r:embed="rId2"/>
          <a:stretch/>
        </p:blipFill>
        <p:spPr>
          <a:xfrm>
            <a:off x="1352520" y="1882800"/>
            <a:ext cx="6438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9" name="Содержимое 4" descr="стена.jpg"/>
          <p:cNvPicPr/>
          <p:nvPr/>
        </p:nvPicPr>
        <p:blipFill>
          <a:blip r:embed="rId1"/>
          <a:stretch/>
        </p:blipFill>
        <p:spPr>
          <a:xfrm>
            <a:off x="285840" y="1500120"/>
            <a:ext cx="4503600" cy="337824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 txBox="1"/>
          <p:nvPr/>
        </p:nvSpPr>
        <p:spPr>
          <a:xfrm>
            <a:off x="5071680" y="1143000"/>
            <a:ext cx="361476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104"/>
                </a:solidFill>
                <a:latin typeface="Century Gothic"/>
              </a:rPr>
              <a:t>Wall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104"/>
                </a:solidFill>
                <a:latin typeface="Century Gothic"/>
              </a:rPr>
              <a:t>СТЕНА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" dur="500"/>
                                        <p:tgtEl>
                                          <p:spTgt spid="3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32" name="Содержимое 4" descr="дверь.jpg"/>
          <p:cNvPicPr/>
          <p:nvPr/>
        </p:nvPicPr>
        <p:blipFill>
          <a:blip r:embed="rId1"/>
          <a:stretch/>
        </p:blipFill>
        <p:spPr>
          <a:xfrm>
            <a:off x="428760" y="1357200"/>
            <a:ext cx="4081320" cy="49294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104"/>
                </a:solidFill>
                <a:latin typeface="Century Gothic"/>
              </a:rPr>
              <a:t>Door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104"/>
                </a:solidFill>
                <a:latin typeface="Century Gothic"/>
              </a:rPr>
              <a:t>ДВЕРЬ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" dur="500"/>
                                        <p:tgtEl>
                                          <p:spTgt spid="3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500680" y="-5018760"/>
            <a:ext cx="142920" cy="1052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800" spc="-1" strike="noStrike">
              <a:solidFill>
                <a:srgbClr val="7daaff"/>
              </a:solidFill>
              <a:latin typeface="Century Gothic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57120" y="356760"/>
            <a:ext cx="822960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Hall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– коридор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Kitchen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 - кухн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Pantry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кладова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Living room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гостина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Bedroom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спальн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Bathroom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ванная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Toilet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туалет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Window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окно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Wall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стена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104"/>
                </a:solidFill>
                <a:latin typeface="Century Gothic"/>
              </a:rPr>
              <a:t>Door</a:t>
            </a:r>
            <a:r>
              <a:rPr b="1" lang="ru-RU" sz="2800" spc="-1" strike="noStrike">
                <a:solidFill>
                  <a:srgbClr val="000104"/>
                </a:solidFill>
                <a:latin typeface="Century Gothic"/>
              </a:rPr>
              <a:t> - дверь</a:t>
            </a:r>
            <a:endParaRPr b="0" lang="en-US" sz="28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pic>
        <p:nvPicPr>
          <p:cNvPr id="336" name="Рисунок 5" descr="дом.jpg"/>
          <p:cNvPicPr/>
          <p:nvPr/>
        </p:nvPicPr>
        <p:blipFill>
          <a:blip r:embed="rId1"/>
          <a:stretch/>
        </p:blipFill>
        <p:spPr>
          <a:xfrm>
            <a:off x="4071960" y="3279600"/>
            <a:ext cx="4594320" cy="32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81108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39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0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1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2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3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4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5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6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7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8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49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0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1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2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3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4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5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6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59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0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1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2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3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4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5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6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7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8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69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0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1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2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3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4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5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6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7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8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79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Заголовок 1" descr=""/>
          <p:cNvPicPr/>
          <p:nvPr/>
        </p:nvPicPr>
        <p:blipFill>
          <a:blip r:embed="rId1"/>
          <a:stretch/>
        </p:blipFill>
        <p:spPr>
          <a:xfrm>
            <a:off x="457200" y="189000"/>
            <a:ext cx="8229600" cy="5973840"/>
          </a:xfrm>
          <a:prstGeom prst="rect">
            <a:avLst/>
          </a:prstGeom>
          <a:ln w="0">
            <a:noFill/>
          </a:ln>
        </p:spPr>
      </p:pic>
      <p:pic>
        <p:nvPicPr>
          <p:cNvPr id="381" name="" descr=""/>
          <p:cNvPicPr/>
          <p:nvPr/>
        </p:nvPicPr>
        <p:blipFill>
          <a:blip r:embed="rId2"/>
          <a:stretch/>
        </p:blipFill>
        <p:spPr>
          <a:xfrm>
            <a:off x="457200" y="6308640"/>
            <a:ext cx="8229600" cy="1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84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5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6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7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8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89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0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1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2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3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4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5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6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7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8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399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0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1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2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3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4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5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6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7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8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09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0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1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2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3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4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5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6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7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8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19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0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1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2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3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4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27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8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29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0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1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2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3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4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5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6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7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8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39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0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1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2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3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4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5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6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7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8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49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0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1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2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3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4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5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6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7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8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59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0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1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2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3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4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5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6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67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8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470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1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2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3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4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5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6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7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8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79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0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1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2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3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4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5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6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7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8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89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0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1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2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3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4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5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6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7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8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499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0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1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2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3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4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5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6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7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8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09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0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13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4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5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6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7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8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19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0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1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2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3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4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5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6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7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8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29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0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1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2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3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4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5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6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7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8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39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0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1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2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3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4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5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6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7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8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49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0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1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2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3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555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56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7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8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59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0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1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2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3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4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5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6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7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8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69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0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1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2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3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4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5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6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7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8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79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u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0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1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2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3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4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5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6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7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8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89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0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1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2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3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4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5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596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pic>
        <p:nvPicPr>
          <p:cNvPr id="304" name="Содержимое 3" descr="коридор.jpg"/>
          <p:cNvPicPr/>
          <p:nvPr/>
        </p:nvPicPr>
        <p:blipFill>
          <a:blip r:embed="rId2"/>
          <a:stretch/>
        </p:blipFill>
        <p:spPr>
          <a:xfrm>
            <a:off x="285840" y="285840"/>
            <a:ext cx="4054320" cy="625320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104"/>
                </a:solidFill>
                <a:latin typeface="Century Gothic"/>
              </a:rPr>
              <a:t>Hall</a:t>
            </a:r>
            <a:endParaRPr b="0" lang="en-US" sz="54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104"/>
                </a:solidFill>
                <a:latin typeface="Century Gothic"/>
              </a:rPr>
              <a:t>КОРИДОР</a:t>
            </a:r>
            <a:br>
              <a:rPr sz="5400"/>
            </a:br>
            <a:br>
              <a:rPr sz="2800"/>
            </a:br>
            <a:endParaRPr b="0" lang="en-US" sz="54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2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7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658800"/>
          </a:xfrm>
          <a:prstGeom prst="rect">
            <a:avLst/>
          </a:prstGeom>
          <a:ln w="0">
            <a:noFill/>
          </a:ln>
        </p:spPr>
      </p:pic>
      <p:sp>
        <p:nvSpPr>
          <p:cNvPr id="598" name=""/>
          <p:cNvSpPr txBox="1"/>
          <p:nvPr/>
        </p:nvSpPr>
        <p:spPr>
          <a:xfrm>
            <a:off x="0" y="107136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599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0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1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2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3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4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5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6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7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8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09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0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1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2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3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4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5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6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7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8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19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0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1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2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u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3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4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5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6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7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8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29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0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1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2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3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4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5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6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7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8" name="Прямоугольник 49"/>
          <p:cNvSpPr/>
          <p:nvPr/>
        </p:nvSpPr>
        <p:spPr>
          <a:xfrm>
            <a:off x="3929040" y="385776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39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0" name="Заголовок 1" descr=""/>
          <p:cNvPicPr/>
          <p:nvPr/>
        </p:nvPicPr>
        <p:blipFill>
          <a:blip r:embed="rId1"/>
          <a:stretch/>
        </p:blipFill>
        <p:spPr>
          <a:xfrm>
            <a:off x="450720" y="122400"/>
            <a:ext cx="8242560" cy="811080"/>
          </a:xfrm>
          <a:prstGeom prst="rect">
            <a:avLst/>
          </a:prstGeom>
          <a:ln w="0">
            <a:noFill/>
          </a:ln>
        </p:spPr>
      </p:pic>
      <p:sp>
        <p:nvSpPr>
          <p:cNvPr id="641" name=""/>
          <p:cNvSpPr txBox="1"/>
          <p:nvPr/>
        </p:nvSpPr>
        <p:spPr>
          <a:xfrm>
            <a:off x="0" y="999720"/>
            <a:ext cx="8686800" cy="5383080"/>
          </a:xfrm>
          <a:prstGeom prst="rect">
            <a:avLst/>
          </a:prstGeom>
          <a:solidFill>
            <a:srgbClr val="b7d6ff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1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104"/>
                </a:solidFill>
                <a:latin typeface="Century Gothic"/>
              </a:rPr>
              <a:t>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2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3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4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5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6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                 </a:t>
            </a:r>
            <a:r>
              <a:rPr b="1" lang="ru-RU" sz="2000" spc="-1" strike="noStrike">
                <a:solidFill>
                  <a:srgbClr val="000104"/>
                </a:solidFill>
                <a:latin typeface="Century Gothic"/>
              </a:rPr>
              <a:t>7</a:t>
            </a:r>
            <a:endParaRPr b="0" lang="en-US" sz="20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642" name="Прямоугольник 3"/>
          <p:cNvSpPr/>
          <p:nvPr/>
        </p:nvSpPr>
        <p:spPr>
          <a:xfrm>
            <a:off x="71424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104"/>
                </a:solidFill>
                <a:latin typeface="Century Gothic"/>
              </a:rPr>
              <a:t>С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3" name="Прямоугольник 4"/>
          <p:cNvSpPr/>
          <p:nvPr/>
        </p:nvSpPr>
        <p:spPr>
          <a:xfrm>
            <a:off x="1214280" y="121428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4" name="Прямоугольник 5"/>
          <p:cNvSpPr/>
          <p:nvPr/>
        </p:nvSpPr>
        <p:spPr>
          <a:xfrm>
            <a:off x="1785960" y="121428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5" name="Прямоугольник 6"/>
          <p:cNvSpPr/>
          <p:nvPr/>
        </p:nvSpPr>
        <p:spPr>
          <a:xfrm>
            <a:off x="2286000" y="121428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6" name="Прямоугольник 7"/>
          <p:cNvSpPr/>
          <p:nvPr/>
        </p:nvSpPr>
        <p:spPr>
          <a:xfrm>
            <a:off x="2786040" y="121428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k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7" name="Прямоугольник 8"/>
          <p:cNvSpPr/>
          <p:nvPr/>
        </p:nvSpPr>
        <p:spPr>
          <a:xfrm>
            <a:off x="228600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8" name="Прямоугольник 10"/>
          <p:cNvSpPr/>
          <p:nvPr/>
        </p:nvSpPr>
        <p:spPr>
          <a:xfrm>
            <a:off x="2786040" y="164304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i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49" name="Прямоугольник 11"/>
          <p:cNvSpPr/>
          <p:nvPr/>
        </p:nvSpPr>
        <p:spPr>
          <a:xfrm>
            <a:off x="335772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0" name="Прямоугольник 12"/>
          <p:cNvSpPr/>
          <p:nvPr/>
        </p:nvSpPr>
        <p:spPr>
          <a:xfrm>
            <a:off x="3929040" y="164304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1" name="Прямоугольник 13"/>
          <p:cNvSpPr/>
          <p:nvPr/>
        </p:nvSpPr>
        <p:spPr>
          <a:xfrm>
            <a:off x="4429080" y="164304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2" name="Прямоугольник 14"/>
          <p:cNvSpPr/>
          <p:nvPr/>
        </p:nvSpPr>
        <p:spPr>
          <a:xfrm>
            <a:off x="5000760" y="164304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w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3" name="Прямоугольник 15"/>
          <p:cNvSpPr/>
          <p:nvPr/>
        </p:nvSpPr>
        <p:spPr>
          <a:xfrm>
            <a:off x="2786040" y="2071800"/>
            <a:ext cx="571680" cy="42840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4" name="Прямоугольник 16"/>
          <p:cNvSpPr/>
          <p:nvPr/>
        </p:nvSpPr>
        <p:spPr>
          <a:xfrm>
            <a:off x="335772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5" name="Прямоугольник 17"/>
          <p:cNvSpPr/>
          <p:nvPr/>
        </p:nvSpPr>
        <p:spPr>
          <a:xfrm>
            <a:off x="3929040" y="2071800"/>
            <a:ext cx="50004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6" name="Прямоугольник 18"/>
          <p:cNvSpPr/>
          <p:nvPr/>
        </p:nvSpPr>
        <p:spPr>
          <a:xfrm>
            <a:off x="4429080" y="2071800"/>
            <a:ext cx="57168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l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7" name="Прямоугольник 19"/>
          <p:cNvSpPr/>
          <p:nvPr/>
        </p:nvSpPr>
        <p:spPr>
          <a:xfrm>
            <a:off x="5000760" y="2071800"/>
            <a:ext cx="571320" cy="42840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8" name="Прямоугольник 20"/>
          <p:cNvSpPr/>
          <p:nvPr/>
        </p:nvSpPr>
        <p:spPr>
          <a:xfrm>
            <a:off x="2786040" y="250020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c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59" name="Прямоугольник 21"/>
          <p:cNvSpPr/>
          <p:nvPr/>
        </p:nvSpPr>
        <p:spPr>
          <a:xfrm>
            <a:off x="335772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0" name="Прямоугольник 23"/>
          <p:cNvSpPr/>
          <p:nvPr/>
        </p:nvSpPr>
        <p:spPr>
          <a:xfrm>
            <a:off x="3929040" y="250020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1" name="Прямоугольник 24"/>
          <p:cNvSpPr/>
          <p:nvPr/>
        </p:nvSpPr>
        <p:spPr>
          <a:xfrm>
            <a:off x="4429080" y="250020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2" name="Прямоугольник 25"/>
          <p:cNvSpPr/>
          <p:nvPr/>
        </p:nvSpPr>
        <p:spPr>
          <a:xfrm>
            <a:off x="5000760" y="250020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3" name="Прямоугольник 26"/>
          <p:cNvSpPr/>
          <p:nvPr/>
        </p:nvSpPr>
        <p:spPr>
          <a:xfrm>
            <a:off x="2786040" y="2928960"/>
            <a:ext cx="571680" cy="42876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h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4" name="Прямоугольник 28"/>
          <p:cNvSpPr/>
          <p:nvPr/>
        </p:nvSpPr>
        <p:spPr>
          <a:xfrm>
            <a:off x="335772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5" name="Прямоугольник 29"/>
          <p:cNvSpPr/>
          <p:nvPr/>
        </p:nvSpPr>
        <p:spPr>
          <a:xfrm>
            <a:off x="3929040" y="2928960"/>
            <a:ext cx="50004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u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6" name="Прямоугольник 30"/>
          <p:cNvSpPr/>
          <p:nvPr/>
        </p:nvSpPr>
        <p:spPr>
          <a:xfrm>
            <a:off x="4429080" y="2928960"/>
            <a:ext cx="57168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7" name="Прямоугольник 32"/>
          <p:cNvSpPr/>
          <p:nvPr/>
        </p:nvSpPr>
        <p:spPr>
          <a:xfrm>
            <a:off x="5000760" y="2928960"/>
            <a:ext cx="571320" cy="42876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8" name="Прямоугольник 33"/>
          <p:cNvSpPr/>
          <p:nvPr/>
        </p:nvSpPr>
        <p:spPr>
          <a:xfrm>
            <a:off x="2786040" y="3357720"/>
            <a:ext cx="57168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e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69" name="Прямоугольник 34"/>
          <p:cNvSpPr/>
          <p:nvPr/>
        </p:nvSpPr>
        <p:spPr>
          <a:xfrm>
            <a:off x="2214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b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0" name="Прямоугольник 36"/>
          <p:cNvSpPr/>
          <p:nvPr/>
        </p:nvSpPr>
        <p:spPr>
          <a:xfrm>
            <a:off x="335772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d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1" name="Прямоугольник 37"/>
          <p:cNvSpPr/>
          <p:nvPr/>
        </p:nvSpPr>
        <p:spPr>
          <a:xfrm>
            <a:off x="3929040" y="3357720"/>
            <a:ext cx="50004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2" name="Прямоугольник 38"/>
          <p:cNvSpPr/>
          <p:nvPr/>
        </p:nvSpPr>
        <p:spPr>
          <a:xfrm>
            <a:off x="4429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3" name="Прямоугольник 39"/>
          <p:cNvSpPr/>
          <p:nvPr/>
        </p:nvSpPr>
        <p:spPr>
          <a:xfrm>
            <a:off x="5000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o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4" name="Прямоугольник 41"/>
          <p:cNvSpPr/>
          <p:nvPr/>
        </p:nvSpPr>
        <p:spPr>
          <a:xfrm>
            <a:off x="5572080" y="335772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m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5" name="Прямоугольник 42"/>
          <p:cNvSpPr/>
          <p:nvPr/>
        </p:nvSpPr>
        <p:spPr>
          <a:xfrm>
            <a:off x="6143760" y="335772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s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6" name="Прямоугольник 43"/>
          <p:cNvSpPr/>
          <p:nvPr/>
        </p:nvSpPr>
        <p:spPr>
          <a:xfrm>
            <a:off x="2214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a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7" name="Прямоугольник 45"/>
          <p:cNvSpPr/>
          <p:nvPr/>
        </p:nvSpPr>
        <p:spPr>
          <a:xfrm>
            <a:off x="1643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p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8" name="Правая фигурная скобка 46"/>
          <p:cNvSpPr/>
          <p:nvPr/>
        </p:nvSpPr>
        <p:spPr>
          <a:xfrm>
            <a:off x="2786040" y="3857760"/>
            <a:ext cx="500040" cy="428400"/>
          </a:xfrm>
          <a:custGeom>
            <a:avLst/>
            <a:gdLst>
              <a:gd name="textAreaLeft" fmla="*/ 0 w 500040"/>
              <a:gd name="textAreaRight" fmla="*/ 180360 w 500040"/>
              <a:gd name="textAreaTop" fmla="*/ 11160 h 428400"/>
              <a:gd name="textAreaBottom" fmla="*/ 417240 h 428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649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79" name="Прямоугольник 47"/>
          <p:cNvSpPr/>
          <p:nvPr/>
        </p:nvSpPr>
        <p:spPr>
          <a:xfrm>
            <a:off x="2786040" y="3857760"/>
            <a:ext cx="571680" cy="500040"/>
          </a:xfrm>
          <a:prstGeom prst="rect">
            <a:avLst/>
          </a:prstGeom>
          <a:solidFill>
            <a:srgbClr val="ffff00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n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80" name="Прямоугольник 48"/>
          <p:cNvSpPr/>
          <p:nvPr/>
        </p:nvSpPr>
        <p:spPr>
          <a:xfrm>
            <a:off x="3357720" y="3857760"/>
            <a:ext cx="57132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t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81" name="Прямоугольник 49"/>
          <p:cNvSpPr/>
          <p:nvPr/>
        </p:nvSpPr>
        <p:spPr>
          <a:xfrm>
            <a:off x="392904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r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  <p:sp>
        <p:nvSpPr>
          <p:cNvPr id="682" name="Прямоугольник 50"/>
          <p:cNvSpPr/>
          <p:nvPr/>
        </p:nvSpPr>
        <p:spPr>
          <a:xfrm>
            <a:off x="4429080" y="3857760"/>
            <a:ext cx="571680" cy="500040"/>
          </a:xfrm>
          <a:prstGeom prst="rect">
            <a:avLst/>
          </a:prstGeom>
          <a:solidFill>
            <a:srgbClr val="72a0ff"/>
          </a:solidFill>
          <a:ln w="25560">
            <a:solidFill>
              <a:srgbClr val="5274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104"/>
                </a:solidFill>
                <a:latin typeface="Century Gothic"/>
              </a:rPr>
              <a:t>y</a:t>
            </a:r>
            <a:endParaRPr b="0" lang="en-US" sz="2400" spc="-1" strike="noStrike">
              <a:solidFill>
                <a:srgbClr val="87ba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Заголовок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 txBox="1"/>
          <p:nvPr/>
        </p:nvSpPr>
        <p:spPr>
          <a:xfrm>
            <a:off x="45720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500"/>
            </a:br>
            <a:endParaRPr b="0" lang="en-US" sz="1500" spc="-1" strike="noStrike">
              <a:solidFill>
                <a:srgbClr val="87baff"/>
              </a:solidFill>
              <a:latin typeface="Century Gothic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357120" y="4714920"/>
            <a:ext cx="797256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Kitchen</a:t>
            </a: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 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КУХНЯ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  <p:pic>
        <p:nvPicPr>
          <p:cNvPr id="309" name="Рисунок 10" descr="кухня.jpg"/>
          <p:cNvPicPr/>
          <p:nvPr/>
        </p:nvPicPr>
        <p:blipFill>
          <a:blip r:embed="rId2"/>
          <a:stretch/>
        </p:blipFill>
        <p:spPr>
          <a:xfrm>
            <a:off x="1071720" y="0"/>
            <a:ext cx="714348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500"/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11" name="Содержимое 4" descr="кладовка.jpg"/>
          <p:cNvPicPr/>
          <p:nvPr/>
        </p:nvPicPr>
        <p:blipFill>
          <a:blip r:embed="rId1"/>
          <a:stretch/>
        </p:blipFill>
        <p:spPr>
          <a:xfrm>
            <a:off x="285840" y="214200"/>
            <a:ext cx="4854600" cy="651996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 txBox="1"/>
          <p:nvPr/>
        </p:nvSpPr>
        <p:spPr>
          <a:xfrm>
            <a:off x="5143320" y="1785960"/>
            <a:ext cx="37573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104"/>
                </a:solidFill>
                <a:latin typeface="Century Gothic"/>
              </a:rPr>
              <a:t>Pantry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104"/>
                </a:solidFill>
                <a:latin typeface="Century Gothic"/>
              </a:rPr>
              <a:t>Кладовая</a:t>
            </a:r>
            <a:endParaRPr b="0" lang="en-US" sz="40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8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14" name="Содержимое 4" descr="гостинная.jpg"/>
          <p:cNvPicPr/>
          <p:nvPr/>
        </p:nvPicPr>
        <p:blipFill>
          <a:blip r:embed="rId1"/>
          <a:stretch/>
        </p:blipFill>
        <p:spPr>
          <a:xfrm>
            <a:off x="2000160" y="57240"/>
            <a:ext cx="4857840" cy="46450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213840" y="5000400"/>
            <a:ext cx="84726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104"/>
                </a:solidFill>
                <a:latin typeface="Century Gothic"/>
              </a:rPr>
              <a:t>Living room</a:t>
            </a:r>
            <a:r>
              <a:rPr b="1" lang="ru-RU" sz="3100" spc="-1" strike="noStrike">
                <a:solidFill>
                  <a:srgbClr val="000104"/>
                </a:solidFill>
                <a:latin typeface="Century Gothic"/>
              </a:rPr>
              <a:t> </a:t>
            </a:r>
            <a:endParaRPr b="0" lang="en-US" sz="31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74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104"/>
                </a:solidFill>
                <a:latin typeface="Century Gothic"/>
              </a:rPr>
              <a:t>ГОСТИННАЯ</a:t>
            </a:r>
            <a:endParaRPr b="0" lang="en-US" sz="31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17" name="Содержимое 4" descr="спальня.jpg"/>
          <p:cNvPicPr/>
          <p:nvPr/>
        </p:nvPicPr>
        <p:blipFill>
          <a:blip r:embed="rId1"/>
          <a:stretch/>
        </p:blipFill>
        <p:spPr>
          <a:xfrm>
            <a:off x="1357200" y="214200"/>
            <a:ext cx="6500880" cy="47214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285840" y="5214600"/>
            <a:ext cx="8400960" cy="10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344520" indent="-29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Bedroom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344520" indent="-2944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СПАЛЬНЯ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500"/>
                                        <p:tgtEl>
                                          <p:spTgt spid="3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0" name="Содержимое 4" descr="ванная.jpg"/>
          <p:cNvPicPr/>
          <p:nvPr/>
        </p:nvPicPr>
        <p:blipFill>
          <a:blip r:embed="rId1"/>
          <a:stretch/>
        </p:blipFill>
        <p:spPr>
          <a:xfrm>
            <a:off x="2428920" y="285840"/>
            <a:ext cx="4286160" cy="46735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571680" y="5072040"/>
            <a:ext cx="811512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104"/>
                </a:solidFill>
                <a:latin typeface="Century Gothic"/>
              </a:rPr>
              <a:t>Bathroom</a:t>
            </a: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104"/>
                </a:solidFill>
                <a:latin typeface="Century Gothic"/>
              </a:rPr>
              <a:t>ВАННАЯ</a:t>
            </a: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24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1000"/>
                                        <p:tgtEl>
                                          <p:spTgt spid="3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3" name="Содержимое 4" descr="туалет.jpg"/>
          <p:cNvPicPr/>
          <p:nvPr/>
        </p:nvPicPr>
        <p:blipFill>
          <a:blip r:embed="rId1"/>
          <a:stretch/>
        </p:blipFill>
        <p:spPr>
          <a:xfrm>
            <a:off x="285840" y="642960"/>
            <a:ext cx="4203720" cy="56055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Toilet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ТУАЛЕТ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>
              <a:spcBef>
                <a:spcPts val="901"/>
              </a:spcBef>
              <a:buClr>
                <a:srgbClr val="72a0ff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500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7daaff"/>
              </a:solidFill>
              <a:latin typeface="Century Gothic"/>
            </a:endParaRPr>
          </a:p>
        </p:txBody>
      </p:sp>
      <p:pic>
        <p:nvPicPr>
          <p:cNvPr id="326" name="Содержимое 4" descr="окно.jpg"/>
          <p:cNvPicPr/>
          <p:nvPr/>
        </p:nvPicPr>
        <p:blipFill>
          <a:blip r:embed="rId1"/>
          <a:stretch/>
        </p:blipFill>
        <p:spPr>
          <a:xfrm>
            <a:off x="428760" y="1643040"/>
            <a:ext cx="3808440" cy="47149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4648320" y="17226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104"/>
                </a:solidFill>
                <a:latin typeface="Century Gothic"/>
              </a:rPr>
              <a:t>Window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  <a:p>
            <a:pPr marL="447840" indent="-3826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104"/>
                </a:solidFill>
                <a:latin typeface="Century Gothic"/>
              </a:rPr>
              <a:t>ОКНО</a:t>
            </a:r>
            <a:endParaRPr b="0" lang="en-US" sz="3600" spc="-1" strike="noStrike">
              <a:solidFill>
                <a:srgbClr val="87ba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3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4-29T19:31:59Z</dcterms:modified>
  <cp:revision>27</cp:revision>
  <dc:subject/>
  <dc:title>«Describing your house»</dc:title>
</cp:coreProperties>
</file>